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15F3-5A76-43E4-B2EA-F87DE254FF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16DC-27C3-48A8-99D8-3F81D4DE979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e l'en-tête 4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qds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483-41E9-48BA-920F-CDB2EAE2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03B-4CC5-43C6-A04D-CFB3B25B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3F1-D58B-4BBB-9343-D9FFC328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0D62-09A4-4076-8FAA-B21E43D8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4A33-B299-484E-8ED3-0C22615F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76F0D-AC53-4079-BB22-31CB0680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1ACC5-824C-4FA6-86CD-2BCB3E20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98397-E679-46FD-91D6-B4B7D17C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874F5-363E-4494-AFA8-9B4927C6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66BEC-4655-4080-83A7-F9D3295A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A17-188B-4F42-A17B-A9FB5C3D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4B583-3112-444F-8D61-9B10355B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3B2A5-FD73-4DFC-B6E9-4A24AD50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5A3FD-9C9D-4A9B-A24E-2BFF80AB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E8061-315F-4498-AF31-ED9B14BF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1A302-66C7-4384-89DD-8B3FD3FF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D689A-E5F7-49F4-BE42-6F1C1419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96AEB-C67C-42D3-AE47-128E2CBF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8C8C5-1FC1-4B9E-BC1C-6AC91DCC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D3DCD-9D9C-4D9B-ACF9-6B083601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688D9-AE0F-478C-BAF6-D46A2307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1E1-8DFA-429A-B9AC-483470BE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15C26-9034-419F-9B37-F79542A0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0428F-2688-40D7-B0EB-74BBF027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61499-232A-4003-A56D-3C9C69E0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271E0-C53D-4E93-BC11-3A96E411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4569A-0C22-4EA7-BA09-F32110E2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B759-A496-486C-B713-7917CA1E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119AF-6A0C-4771-9903-809D0385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3F09C-9DDD-4D77-8C53-2755768A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1B8D3-C8DE-4B30-86E6-AE512BB6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B02-06D6-4FC7-A8A7-A79C43C9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C81B-7F33-4A0B-A8EE-C5A875F5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A29-A872-447D-B482-ED045012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815-4F05-4621-B4E9-0D86D156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518-7F0B-4BA7-8351-EF45D16A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28/0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owerpoint template - Patricia Munoz 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D443-9FC9-471B-8047-A417DCCA2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6"/>
          <p:cNvSpPr/>
          <p:nvPr/>
        </p:nvSpPr>
        <p:spPr>
          <a:xfrm>
            <a:off x="4857840" y="6357960"/>
            <a:ext cx="36432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5e0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11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www.europeanschoolnet.org -  www.eu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logo_eun.jpg"/>
          <p:cNvPicPr/>
          <p:nvPr/>
        </p:nvPicPr>
        <p:blipFill>
          <a:blip r:embed="rId3"/>
          <a:stretch/>
        </p:blipFill>
        <p:spPr>
          <a:xfrm>
            <a:off x="4786200" y="2071800"/>
            <a:ext cx="3714840" cy="1646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6" descr="logo_europeanschoolnet.jpg"/>
          <p:cNvPicPr/>
          <p:nvPr/>
        </p:nvPicPr>
        <p:blipFill>
          <a:blip r:embed="rId3"/>
          <a:stretch/>
        </p:blipFill>
        <p:spPr>
          <a:xfrm>
            <a:off x="4103640" y="6264360"/>
            <a:ext cx="1246320" cy="571320"/>
          </a:xfrm>
          <a:prstGeom prst="rect">
            <a:avLst/>
          </a:prstGeom>
          <a:ln w="0">
            <a:noFill/>
          </a:ln>
        </p:spPr>
      </p:pic>
      <p:sp>
        <p:nvSpPr>
          <p:cNvPr id="82" name="Espace réservé du pied de page 4"/>
          <p:cNvSpPr/>
          <p:nvPr/>
        </p:nvSpPr>
        <p:spPr>
          <a:xfrm>
            <a:off x="5143680" y="6366960"/>
            <a:ext cx="314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177c1"/>
                </a:solidFill>
                <a:latin typeface="Arial"/>
                <a:ea typeface="Arial"/>
              </a:rPr>
              <a:t>www.europeanschoolnet.org - www.eun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4"/>
          </p:nvPr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Powerpoint template - Patricia Munoz 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5"/>
          </p:nvPr>
        </p:nvSpPr>
        <p:spPr>
          <a:xfrm>
            <a:off x="8215200" y="6356160"/>
            <a:ext cx="4716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49B1-288A-4495-B2F1-FB823973E14A}" type="slidenum"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6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28/0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mage 6" descr="logo_europeanschoolnet.jpg"/>
          <p:cNvPicPr/>
          <p:nvPr/>
        </p:nvPicPr>
        <p:blipFill>
          <a:blip r:embed="rId3"/>
          <a:stretch/>
        </p:blipFill>
        <p:spPr>
          <a:xfrm>
            <a:off x="4103640" y="6264360"/>
            <a:ext cx="1246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Espace réservé du pied de page 4"/>
          <p:cNvSpPr/>
          <p:nvPr/>
        </p:nvSpPr>
        <p:spPr>
          <a:xfrm>
            <a:off x="5143680" y="6366960"/>
            <a:ext cx="314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177c1"/>
                </a:solidFill>
                <a:latin typeface="Arial"/>
                <a:ea typeface="Arial"/>
              </a:rPr>
              <a:t>www.europeanschoolnet.org - www.eun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28/0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Powerpoint template - Patricia Munoz 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8215200" y="6356160"/>
            <a:ext cx="4716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03A3-FD36-4A2A-AC80-2DEE035E8497}" type="slidenum"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3716280"/>
            <a:ext cx="80326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177c1"/>
                </a:solidFill>
                <a:latin typeface="Arial"/>
                <a:ea typeface="Arial"/>
              </a:rPr>
              <a:t>Digital Skills Working Group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856880" y="5373720"/>
            <a:ext cx="6643800" cy="9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177c1"/>
                </a:solidFill>
                <a:latin typeface="Arial"/>
                <a:ea typeface="Arial"/>
              </a:rPr>
              <a:t>Anja Balans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177c1"/>
                </a:solidFill>
                <a:latin typeface="Arial"/>
                <a:ea typeface="Arial"/>
              </a:rPr>
              <a:t>17/03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168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Calibri"/>
                <a:ea typeface="Arial"/>
              </a:rPr>
              <a:t>Memb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e la date 6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7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C5EE-22BA-4E6E-A41D-2B993CF4D01E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468360" y="1413000"/>
            <a:ext cx="82296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Belgium (Flanders), Czech Republic, </a:t>
            </a: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Finland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Italy, Lithuania, Norway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, Poland, Portugal, Spain, Switzerland, Turkey, U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April 2009: research findings on the status of digital technology use in teaching an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Teachers’ needs (training: initial, in servi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udents’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ssessment and curricul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National / European cer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nvolvement of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42600" y="285840"/>
            <a:ext cx="8218440" cy="92232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Requirements for the Development of Digital Compet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view of national curricula (currently ongo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urvey of national pilots of new forms of assess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Case study research about teachers changed pract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42600" y="285840"/>
            <a:ext cx="8218440" cy="92232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Activ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GITAL COMPETENCE IS THE APPLICATION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QUIRED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KNOWLEDGE, SKILLS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TTITUD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ING ICT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ORDER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RFORM A TASK ADEQUATELY IN A SPECIF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TEXT, SUCH AS EDUCATION, WORK,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RSONAL OR PROFESSIONAL DEVELOP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42600" y="285840"/>
            <a:ext cx="8218440" cy="92232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Review of National Curricu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642600" y="285840"/>
            <a:ext cx="8218440" cy="92232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Review of National Curricu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349360" y="2143080"/>
          <a:ext cx="4445280" cy="2714760"/>
        </p:xfrm>
        <a:graphic>
          <a:graphicData uri="http://schemas.openxmlformats.org/drawingml/2006/table">
            <a:tbl>
              <a:tblPr/>
              <a:tblGrid>
                <a:gridCol w="1416240"/>
                <a:gridCol w="1514520"/>
                <a:gridCol w="1514520"/>
              </a:tblGrid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ach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03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icu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 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nowled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ll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ttitu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 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nowled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ll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ttitu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31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 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nowled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ll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ttitu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 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nowled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ll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ttitu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340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gital Compet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Requirements from policy ma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What do they want to know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2232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DSWG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own Arrow 3"/>
          <p:cNvSpPr/>
          <p:nvPr/>
        </p:nvSpPr>
        <p:spPr>
          <a:xfrm>
            <a:off x="4140360" y="270828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571760" y="3929040"/>
            <a:ext cx="535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Arial"/>
              </a:rPr>
              <a:t>Type of evidence? Output forma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Meeting 21 April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First results of curricula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Specific national insights (e.g. knowledge building examples, assessment, initial teacher train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N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46:21Z</dcterms:created>
  <dc:creator>Gilles</dc:creator>
  <dc:description/>
  <dc:language>en-US</dc:language>
  <cp:lastModifiedBy>anja</cp:lastModifiedBy>
  <dcterms:modified xsi:type="dcterms:W3CDTF">2010-03-17T11:26:33Z</dcterms:modified>
  <cp:revision>111</cp:revision>
  <dc:subject/>
  <dc:title>Title</dc:title>
</cp:coreProperties>
</file>